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F211-7DA2-4DB8-A796-EEB4A4226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A9D5-B9B1-4B69-8DFA-6DCCAB551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F5E01-EB2C-4428-8EC8-224A57526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31849-8404-408B-A4D8-63A27C71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965C5-B0CC-4049-A313-93265BF64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A86B4-7997-4F48-82E6-1B2A794A5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C03E-AF5B-4AFD-BE6F-306F886E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172F-0402-44CE-AC70-9856E1A3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88E0-3446-4E5D-9293-1D0AFED0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600F-35DA-4F9B-B348-4D45051C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4AD1-C043-47EA-B6CA-C2AE45BC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E6A3-2DB0-4E90-98DF-71F6667A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F6F7-85F0-476E-970D-6FBD7B8A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1D07B-FAC8-4DD8-A93C-FDADA418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1A4E-BF3F-4A80-A06C-81D1FBD5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E7A5-0162-476D-8F30-8EA492D5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CC28-DEE0-4C01-9EDC-2C17E422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A8EB-7376-4FA5-856E-9961A828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2DA6-B8F3-4DB4-9F9F-09DF47EDB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F0EE0-C7C5-450F-A791-F7DDADC9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3CEBA-A76F-4CBC-87FD-514345E4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FF292-E143-424B-B031-B1903697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79719-93F0-4485-90A3-5385CAD3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63753-9A51-4CAF-A27C-54AACDC6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FA5A1-C671-4E53-8A6D-44B0455D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A8199-E88A-4B78-AA6C-A6101FE0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C8A4-63E1-447B-A3CC-C13D3F07C6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CEC1-2387-4840-9A9C-4286A139BA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Impacts of MOs for Fruits, Vegetables and Tree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inimum Quality Standard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rohibit shipments of products not meeting minimum standards for grade, size and matur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Reduce quantity available in mark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Facilitate marketing, lower transactions costs, improve marketing efficiency, allow product differenti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Impacts of MOs for Fruits, Vegetables and Tree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Minimum Quality Standard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ay increase demand due to increased buyer certainty and repeat sal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lso apply to some imported products covered by Ord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May act as non-tariff barriers to tra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Impacts of MOs for Fruits, Vegetables and Tree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Price Discrimin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llows allocation of shipments among primary and secondary marke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ith different prices and demand characteristic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xample:  US and export market for raisi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mpacts depend on demand elastic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Revenues increased if inelasti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Impacts of MOs for Fruits, Vegetables and Tree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Reserve Poo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ithholds supply from the market is supply is “large” relative to deman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Held “in reserve” if market conditions impro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f not, sale to secondary markets, for non-food use or held as carryover stoc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rovision in MOs for CA walnuts, dates, almonds, Florida citrus, but not in u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Impacts of MOs for Fruits, Vegetables and Tree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Market Flow Provisio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Designed to “smooth” shipments during a marketing seas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But not affect total volu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ot currently in u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vidence about impacts is limit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Outcomes similar to perfectly competitive mark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Impacts of MOs for Fruits, Vegetables and Tree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Pack and Container Standardiz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ssure buyers of shipment consistenc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ay reduce marketing costs through efficient product handl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Facilitate price report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nhance traceabil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Efficiency under MOs for Fruits, Vegetables and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erfectly competitive markets effici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By defini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Os can be viewed as interventions to correct perceived market imperfectio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Os modify operational rules and conduct of firm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tended outcomes: “Orderly marketing”, increased price stability, enhancem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Efficiency under MOs for Fruits, Vegetables and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revious studies address combined provisions or individual on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Key criteria include trade-offs in efficiency gains and losses, other social goa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sults not definitive; depend on effects of MOs, substitution in consumption and risk avers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Efficiency under MOs for Fruits, Vegetables and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New criteria required for global fruit, vegetable and tree nut supply chai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irm conduct and consumer expect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riteria should include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echnical, allocative, dynamic efficiency and nonmarket benefi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Limited evidence about these impacts from previous stud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chnical Efficiency under MOs for Fruits, Vegetables and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vidence is limited and inconclusi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rders may provide incentives for innovation in quality contro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ilson et al. (200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thers argue that incentives are reduc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xamples:  limited use of shrink wrap for lemons, grading mechanisms for pru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Federal and State Marketing Order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rles F. Nichol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chel S. Pagg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llocative Efficiency under MOs for Fruits, Vegetables and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vidence is limited, extant studies illustrative, not definiti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fficiency gains for pistachi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Gray et al., (200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Gains from reduced volume and price swings (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Zepp and Powers,199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ore recent studies suggest no universal conclusion is poss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llocative Efficiency under MOs for Fruits, Vegetables and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Limited evidence of impacts, but existing studies suggest that increased returns to growers reduce consumer surpl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isk response and time frame for the analysis can imply that impacts are indetermina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ilk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garded as the most complex of a suite of US dairy polic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Historical context includes severe market disruptions (milk strikes) and instabil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Government action codified private actions previously attempted by dairy cooperativ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ilk Marketing Order Provis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lassification of milk by u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ricing of milk by class (use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oordination of prices across (geographic) market are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ooling of returns to produc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uditing to facilitate enforcem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dministrative procedures to amen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ilk Marketing Order Provis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Classification of Milk by U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omponents in milk (e.g., fat, protein) assigned to a “class” based on u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Federal Orders have 4 class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alifornia state Order has 5, but similar provis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ilk Marketing Order Provis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Pricing of Milk by Clas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rders set </a:t>
            </a: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minimum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prices that “first handlers” (processors) must pa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ctual prices paid are higher; “over-order” prem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rices set based on recent product prices, adjusted for manufacturing cos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ational pricing for manufactured produ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Regional pricing for fluid milk produ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ilk Marketing Order Provis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Pricing of Milk by Clas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Fluid milk has highest regulated pri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nly fluid milk processors are </a:t>
            </a: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required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to participate (pay the minimum price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But other manufacturers of dairy products find it advantageous to do 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nhances price they can pay to dairy farmer suppli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ilk Marketing Order Provis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Pooling of Returns to Produc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Value of the milk marketed shared among producers supplying a marketing are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Blend Price” is the total value of milk components divided by the volume of milk marketed through the Orde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duces variation in price received among producers in a given marke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ilk Marketing Order Provis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Auditing to Facilitate Enforcem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rovisions allow auditing of milk use reported by handl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Administrative Procedures to Amen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Specifics vary, but 2/3 vote required for amendment or elimin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dministrative hearing requir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volution of Milk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Scope and impact changed over ti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arly, limited number of Orders and small proportion of milk cover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n 2000, about 92% of US milk regula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onsolidation with improvements in transportation and process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Orders reduced to 10 as of 200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verview of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Developed in 1930s under Agricultural Marketing Agreement Act (193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Legal instrument issued by USD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riginal objectives: “orderly marketing” and establishment of parity pric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arity” concept since abandon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Other fundamental statutory provisions have remained the same since th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volution of Milk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mpacts on average prices paid decreasing over time, due t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Larger growth of milk used in manufacturing rather than flui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maller proportion of milk paying higher pri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Difference paid for fluid versus manufacturing milk smaller as proportion of pri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Impacts of Milk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any studies have examined, but limited consensus, due t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re underlying markets competitive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teractions with other dairy polic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ssumptions about elasticities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Use of comparative static rather than dynamic framework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Impacts of Milk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If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markets are competitive, Order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crease average prices paid produc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crease total milk production and dairy farmer revenu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crease price paid for fluid milk, but decrease dairy product pric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duce social welfare (surplus measures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Impacts of Milk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Are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milk markets are competitive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Determination not easy after 70+ years of regul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Many analysts assert but do not sho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f not competitive, do dairy cooperatives have offsetting market powe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vidence is inconclusive, and some suggest cooperatives need Orders to function effective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chnical Efficiency Under Milk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Limited study for dairy farms, processing firms, food retailer (i.e., supply chai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mpacts on industry structure not well know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rders provide incentives for production in higher cost areas and conversion to Grade A milk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chnical Efficiency Under Milk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Dynamic analysis indicates that Orders could facilitate farm growth and lower production cos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urrent Order pricing broadly consistent with least-cost spatial equilibrium models of US dairy secto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llocative Efficiency Under Milk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llocative inefficiency a key criticism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verinvestment in milk production, for Grade A and in higher cost are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ore costly milk transportation for pool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strictions on reconstituted milk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llocation of milk to highest value u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llocative Efficiency Under Milk Marketing Orders (continued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Transfers from consumers to produc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gional redistribution for producers based on class utiliz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Lower prices and revenues in regions with much manufacturing mil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onsumers of fluid products negatively affected, potential benefits for households consuming manufactured produc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ynamic Efficiency Under Milk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mpacts on supply chain evolution and costs not well know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ductions in price variabil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isk management may be facilitat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mpact on forward contracting a concern before 200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mpacts on product innovation uncertai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rders change, but too slowly for so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Non-Market Benefits Under Milk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Non-market” impacts may exist on nutrition, health, rural development, animal welfare and social justi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Not well studied; more research need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Smaller, less favorably located farms may benefit more from Ord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Redistribution a social justice issu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verview of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ommodities covered include milk and 22 fruits, vegetables, nuts and specialty crop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conomic similarities of commodities covered by marketing Order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egree of perishability and storabil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rice volatility and price inequa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rice discrimination possibil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olicy Options and Information Needs for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verall, evidence suggests that Orders have accomplished many of the objectives Congress intend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ttempts to change Orders must balance issue of inefficiencies and restraints on competition with unique nature of the agricultural business environm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olicy Options and Information Needs for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olicy options for Orders include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39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For the sake of completenes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aintain current Order program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place Orders with other program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odify Orders to address industry and market changes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liminate Orders, with/without phase-ou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olicy Options and Information Needs for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Maintain current Order programs or Eliminate Orders, with/without phase-ou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mpacts can be assessed (at least to some extent) with existing research ba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hased versus immediate elimination impacts less clea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stitutional arrangements for milk Orders would influence outcom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olicy Options and Information Needs for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Replace Orders with Other Program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xtend current commodity programs to those covered by Ord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Develop new programs with similar objectives for Order commodit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olicy Options and Information Needs for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Replace Orders with Other Program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bjectives of current programs differ from those of ord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ny “replacement” will be an imperfect substitu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placement” is a misnomer for milk, given numerous other program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Neither is likely in current political and economic environm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olicy Options and Information Needs for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Modify Orders with Industry and Market Chang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ay not require major changes for fruits, vegetables and tree nu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xamples:  additional emphasis on food safety and less emphasis on volume contro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hanges to milk Orders challenging given current winners and los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olicy Options and Information Needs for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formation needs include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Basic response information (elasticities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Non-market impacts under-research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Dynamic impacts a prior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rice discovery, risk management options, organizational and institutional chan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hat potential for collaboration among industry as a replacement for Order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verview of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rders apply to specific commodities produced in a specific geographic are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roposed by producer group, but USDA makes determination of ne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mplemented if 2/3 of eligible producers or production vote in favo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Binding on ALL handlers once approved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ruit, Vegetable, Nut and Specialty Crop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Stabilize” market conditions through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Limits on amount market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ontrol and disposition of surpl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Quality standards and inspec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strictions on packag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search and promotion on production, marketing, distribution or consump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ruit, Vegetable, Nut and Specialty Crop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 2011, 32 federal marketing Orders for about 20 commodit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Farm value of regulated crops about $6 billion in 2007-2009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5% of farm receipts from crop sa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arketing Order Administration Branch of Fruit and Vegetable Program of USDA provides overall administr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volution of MOs for Fruits, Vegetables and Tree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Both for provisions for all Orders and individual commodit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1940s to 1960s: greater restrictions on quality, maturity, rate of flow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1970s:  Handler assessments authorized, but growing public concern and reviews of benefits and shortcoming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volution of MOs for Fruits, Vegetables and Tree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dividual Orders give more attention to food safe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specially related to grades and standa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xamples:  aflatoxin in pistachios, salmonella in almon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volution of Orders likely to continue, especially to address food safety issu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More cooperation between USDA and FDA like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3:39:48Z</dcterms:created>
  <dc:creator>Walt</dc:creator>
  <dc:description/>
  <dc:language>en-US</dc:language>
  <cp:lastModifiedBy>Walt</cp:lastModifiedBy>
  <dcterms:modified xsi:type="dcterms:W3CDTF">2012-06-03T19:48:48Z</dcterms:modified>
  <cp:revision>61</cp:revision>
  <dc:subject/>
  <dc:title>U.S. Policies Affecting Food and Agricultural Marketing</dc:title>
</cp:coreProperties>
</file>